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BCF6-C6A8-4642-9264-9DB3888FA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AC3F-DC1E-4A91-BE0F-DE7D70C4A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948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A9E6-0BB9-479C-B83A-BCC195F54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597E-9745-4ED4-89D7-780E96C1A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A3DE2-223D-4F5A-A053-F6BDDBD45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C1DDD-022F-40C5-AE7B-1232865C36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36AD1-C42F-4CA3-BB11-C40F2F8CD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2EC13-2A2C-43D4-9A1C-B8B249A17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15FA7-F987-40BA-9FA2-58EFA6FED4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6248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DF6C1-9219-44FC-813C-29B8CC8E03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FF680-4A57-469C-A433-3C2EB4FBB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90D3-5350-4145-A829-9923C77E2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948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ADFBD-D352-4501-8D46-93518EC155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88D9A-45DA-4DE8-A9E0-BF2F8B843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ECBDA-83E6-4295-AC28-998AAD78A8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948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13946-4A72-4F37-AF42-3CA6070A50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F20A1-334D-468F-8D8F-919C8F410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18D4-98E5-4951-9A7C-849C93F19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A7BB-1B48-48C2-8F05-3DBADE024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9609-70D5-472F-A6B5-9976D6DA9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6248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0596-2D04-4EA9-8E90-57089282A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B765-80AF-46C6-BAAE-AC4A7D558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948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E321-E85A-45D8-945D-66AF0A6EF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94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17B4-E5F6-476B-8B4F-176BF0E16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8cdd"/>
                </a:solidFill>
                <a:latin typeface="Stilu SemiBold"/>
              </a:rPr>
              <a:t>Click to edit the title text format</a:t>
            </a: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Click to edit the outline text format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1" marL="603360" indent="-603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Second Outline Level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2" marL="603360" indent="-60336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Third Outline Level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3" marL="603360" indent="-603360">
              <a:spcBef>
                <a:spcPts val="799"/>
              </a:spcBef>
              <a:buClr>
                <a:srgbClr val="000000"/>
              </a:buClr>
              <a:buFont typeface="Stilu Semi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Fourth Outline Level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4" marL="603360" indent="-603360">
              <a:spcBef>
                <a:spcPts val="799"/>
              </a:spcBef>
              <a:buClr>
                <a:srgbClr val="000000"/>
              </a:buClr>
              <a:buFont typeface="Stilu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Fifth Outline Level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5" marL="603360" indent="-603360">
              <a:spcBef>
                <a:spcPts val="799"/>
              </a:spcBef>
              <a:buClr>
                <a:srgbClr val="000000"/>
              </a:buClr>
              <a:buFont typeface="Stilu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Sixth Outline Level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6" marL="603360" indent="-603360">
              <a:spcBef>
                <a:spcPts val="799"/>
              </a:spcBef>
              <a:buClr>
                <a:srgbClr val="000000"/>
              </a:buClr>
              <a:buFont typeface="Stilu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Seventh Outline Level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Stil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84E-7870-45F0-8D01-681A6B4CDBF3}" type="slidenum">
              <a:rPr b="0" lang="fr-FR" sz="1400" spc="-1" strike="noStrike">
                <a:solidFill>
                  <a:srgbClr val="000000"/>
                </a:solidFill>
                <a:latin typeface="Stil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90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0b8cdd"/>
                </a:solidFill>
                <a:latin typeface="Stil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b8cdd"/>
                </a:solidFill>
                <a:latin typeface="Stilu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tilu SemiBold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Stilu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990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0b8cdd"/>
                </a:solidFill>
                <a:latin typeface="Stil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b8cdd"/>
                </a:solidFill>
                <a:latin typeface="Stilu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Stil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75C4-2A33-4BFF-A08A-FDE821F479F0}" type="slidenum">
              <a:rPr b="0" lang="fr-FR" sz="1400" spc="-1" strike="noStrike">
                <a:solidFill>
                  <a:srgbClr val="000000"/>
                </a:solidFill>
                <a:latin typeface="Stil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Click to edit the outline text format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ilu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tilu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Stilu"/>
              </a:rPr>
              <a:t>Third Outline Level</a:t>
            </a:r>
            <a:endParaRPr b="0" i="1" lang="en-US" sz="2400" spc="-1" strike="noStrike">
              <a:solidFill>
                <a:srgbClr val="808080"/>
              </a:solidFill>
              <a:latin typeface="Stilu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tilu Semi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ilu Semi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tilu Semi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Stilu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tilu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Stilu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til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tilu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Stilu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tilu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tilu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Stil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4419720"/>
            <a:ext cx="86868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Stilu SemiBold"/>
              </a:rPr>
              <a:t>TITRE DU DOCU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tilu"/>
              </a:rPr>
              <a:t>Sous-titre du document ou service émet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m du docu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F779-C2F8-489F-A914-60BC0272D7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tilu SemiBold"/>
              </a:rPr>
              <a:t>TITRE DE SECTION</a:t>
            </a:r>
            <a:endParaRPr b="1" lang="en-US" sz="2400" spc="-1" strike="noStrike">
              <a:solidFill>
                <a:srgbClr val="ffffff"/>
              </a:solidFill>
              <a:latin typeface="Stilu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Bref descriptif de la section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om du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C57A6-9C2A-44BA-8A61-7C6979072359}" type="slidenum">
              <a:t>2</a:t>
            </a:fld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8cdd"/>
                </a:solidFill>
                <a:latin typeface="Stilu SemiBold"/>
              </a:rPr>
              <a:t>TITRE DE DIAPOSITIVE</a:t>
            </a: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Titre de niveau 1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ilu"/>
              </a:rPr>
              <a:t>Point de niveau 2</a:t>
            </a:r>
            <a:endParaRPr b="0" lang="en-US" sz="2800" spc="-1" strike="noStrike">
              <a:solidFill>
                <a:srgbClr val="000000"/>
              </a:solidFill>
              <a:latin typeface="Stilu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Stilu"/>
              </a:rPr>
              <a:t>Texte explicatif de niveau 2</a:t>
            </a:r>
            <a:endParaRPr b="0" i="1" lang="en-US" sz="2400" spc="-1" strike="noStrike">
              <a:solidFill>
                <a:srgbClr val="808080"/>
              </a:solidFill>
              <a:latin typeface="Stilu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Stilu Semi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ilu SemiBold"/>
              </a:rPr>
              <a:t>Point de niveau 3</a:t>
            </a:r>
            <a:endParaRPr b="0" lang="en-US" sz="2000" spc="-1" strike="noStrike">
              <a:solidFill>
                <a:srgbClr val="000000"/>
              </a:solidFill>
              <a:latin typeface="Stilu SemiBold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tilu"/>
              </a:rPr>
              <a:t>Texte explicatif de niveau 3</a:t>
            </a:r>
            <a:endParaRPr b="0" i="1" lang="en-US" sz="2000" spc="-1" strike="noStrike">
              <a:solidFill>
                <a:srgbClr val="000000"/>
              </a:solidFill>
              <a:latin typeface="Stil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m du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7A49-3C80-4725-B422-9C912395F6F9}" type="slidenum">
              <a:t>3</a:t>
            </a:fld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8cdd"/>
                </a:solidFill>
                <a:latin typeface="Stilu SemiBold"/>
              </a:rPr>
              <a:t>TITRE DE DIAPOSITIVE</a:t>
            </a: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Titre de niveau 1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ilu"/>
              </a:rPr>
              <a:t>Point de niveau 2</a:t>
            </a:r>
            <a:endParaRPr b="0" lang="en-US" sz="2800" spc="-1" strike="noStrike">
              <a:solidFill>
                <a:srgbClr val="000000"/>
              </a:solidFill>
              <a:latin typeface="Stilu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Stilu"/>
              </a:rPr>
              <a:t>Texte explicatif de niveau 2</a:t>
            </a:r>
            <a:endParaRPr b="0" i="1" lang="en-US" sz="2400" spc="-1" strike="noStrike">
              <a:solidFill>
                <a:srgbClr val="808080"/>
              </a:solidFill>
              <a:latin typeface="Stilu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Stilu Semi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ilu SemiBold"/>
              </a:rPr>
              <a:t>Point de niveau 3</a:t>
            </a:r>
            <a:endParaRPr b="0" lang="en-US" sz="2000" spc="-1" strike="noStrike">
              <a:solidFill>
                <a:srgbClr val="000000"/>
              </a:solidFill>
              <a:latin typeface="Stilu SemiBold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tilu"/>
              </a:rPr>
              <a:t>Texte explicatif de niveau 3</a:t>
            </a:r>
            <a:endParaRPr b="0" i="1" lang="en-US" sz="2000" spc="-1" strike="noStrike">
              <a:solidFill>
                <a:srgbClr val="000000"/>
              </a:solidFill>
              <a:latin typeface="Stil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m du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70F4-34FA-43F6-94A1-423DB415E916}" type="slidenum">
              <a:t>4</a:t>
            </a:fld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tilu SemiBold"/>
              </a:rPr>
              <a:t>TITRE DE SECTION</a:t>
            </a:r>
            <a:endParaRPr b="1" lang="en-US" sz="2400" spc="-1" strike="noStrike">
              <a:solidFill>
                <a:srgbClr val="ffffff"/>
              </a:solidFill>
              <a:latin typeface="Stilu Semi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Bref descriptif de la section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om du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FDB7B-F33C-4539-AB48-3641377A8635}" type="slidenum">
              <a:t>5</a:t>
            </a:fld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8cdd"/>
                </a:solidFill>
                <a:latin typeface="Stilu SemiBold"/>
              </a:rPr>
              <a:t>TITRE DE DIAPOSITIVE</a:t>
            </a: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Titre de niveau 1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ilu"/>
              </a:rPr>
              <a:t>Point de niveau 2</a:t>
            </a:r>
            <a:endParaRPr b="0" lang="en-US" sz="2800" spc="-1" strike="noStrike">
              <a:solidFill>
                <a:srgbClr val="000000"/>
              </a:solidFill>
              <a:latin typeface="Stilu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Stilu"/>
              </a:rPr>
              <a:t>Texte explicatif de niveau 2</a:t>
            </a:r>
            <a:endParaRPr b="0" i="1" lang="en-US" sz="2400" spc="-1" strike="noStrike">
              <a:solidFill>
                <a:srgbClr val="808080"/>
              </a:solidFill>
              <a:latin typeface="Stilu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Stilu Semi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ilu SemiBold"/>
              </a:rPr>
              <a:t>Point de niveau 3</a:t>
            </a:r>
            <a:endParaRPr b="0" lang="en-US" sz="2000" spc="-1" strike="noStrike">
              <a:solidFill>
                <a:srgbClr val="000000"/>
              </a:solidFill>
              <a:latin typeface="Stilu SemiBold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tilu"/>
              </a:rPr>
              <a:t>Texte explicatif de niveau 3</a:t>
            </a:r>
            <a:endParaRPr b="0" i="1" lang="en-US" sz="2000" spc="-1" strike="noStrike">
              <a:solidFill>
                <a:srgbClr val="000000"/>
              </a:solidFill>
              <a:latin typeface="Stil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m du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9030-FD35-4FDA-8101-0485C981307B}" type="slidenum">
              <a:t>6</a:t>
            </a:fld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8cdd"/>
                </a:solidFill>
                <a:latin typeface="Stilu SemiBold"/>
              </a:rPr>
              <a:t>TITRE DE DIAPOSITIVE</a:t>
            </a:r>
            <a:endParaRPr b="1" lang="en-US" sz="2400" spc="-1" strike="noStrike">
              <a:solidFill>
                <a:srgbClr val="0b8cdd"/>
              </a:solidFill>
              <a:latin typeface="Stilu Semi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8cdd"/>
                </a:solidFill>
                <a:latin typeface="Stilu SemiBold"/>
              </a:rPr>
              <a:t>Titre de niveau 1</a:t>
            </a:r>
            <a:endParaRPr b="1" lang="en-US" sz="3200" spc="-1" strike="noStrike">
              <a:solidFill>
                <a:srgbClr val="0b8cdd"/>
              </a:solidFill>
              <a:latin typeface="Stilu SemiBold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tilu"/>
              </a:rPr>
              <a:t>Point de niveau 2</a:t>
            </a:r>
            <a:endParaRPr b="0" lang="en-US" sz="2800" spc="-1" strike="noStrike">
              <a:solidFill>
                <a:srgbClr val="000000"/>
              </a:solidFill>
              <a:latin typeface="Stilu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Stilu"/>
              </a:rPr>
              <a:t>Texte explicatif de niveau 2</a:t>
            </a:r>
            <a:endParaRPr b="0" i="1" lang="en-US" sz="2400" spc="-1" strike="noStrike">
              <a:solidFill>
                <a:srgbClr val="808080"/>
              </a:solidFill>
              <a:latin typeface="Stilu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Stilu Semi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tilu SemiBold"/>
              </a:rPr>
              <a:t>Point de niveau 3</a:t>
            </a:r>
            <a:endParaRPr b="0" lang="en-US" sz="2000" spc="-1" strike="noStrike">
              <a:solidFill>
                <a:srgbClr val="000000"/>
              </a:solidFill>
              <a:latin typeface="Stilu SemiBold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tilu"/>
              </a:rPr>
              <a:t>Texte explicatif de niveau 3</a:t>
            </a:r>
            <a:endParaRPr b="0" i="1" lang="en-US" sz="2000" spc="-1" strike="noStrike">
              <a:solidFill>
                <a:srgbClr val="000000"/>
              </a:solidFill>
              <a:latin typeface="Stil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m du docu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3774-6F34-4588-B120-D2E1C1AE5E8C}" type="slidenum">
              <a:t>7</a:t>
            </a:fld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11:13:50Z</dcterms:created>
  <dc:creator/>
  <dc:description/>
  <cp:keywords/>
  <dc:language>en-US</dc:language>
  <cp:lastModifiedBy>Julien Auduit</cp:lastModifiedBy>
  <dcterms:modified xsi:type="dcterms:W3CDTF">2016-02-09T09:27:59Z</dcterms:modified>
  <cp:revision>42</cp:revision>
  <dc:subject>Exemple de présentation</dc:subject>
  <dc:title>Présentation PowerPoint</dc:title>
</cp:coreProperties>
</file>